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3D7C-976E-4792-9009-F601123BB2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6749-D66A-42AB-80E8-9208AD4C72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33C7-FD0C-4ABB-90A8-11702FECDD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8EB2-0E87-4985-BAEB-5C9A8320B1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D4E3-C666-4FF6-BF49-BCF5E62902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85A4-9258-469D-B364-6101684B29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4084-C273-402A-83FB-7F8A6A6896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E019-123F-4627-A1E0-40CCF98B26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3C68-56A6-4363-8AD9-C960AA5C10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E7DF-1570-4681-B72C-F4C445FA08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B115-99D9-482F-8D92-B9DC084D7F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68A0-314B-401A-A41E-F3D7039C19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1543-359C-4321-9709-6CDEF7F761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FB41-2A8E-40E6-B7B1-36F8673096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3EA4-0EB1-4E19-8EEB-8ACF52E2C6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4F62-BDF8-409C-9C76-2BF61CD78E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3437-C610-4076-8E3A-748B513FB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2411-470A-40AB-A4DD-3EA4D6C7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84A0-CBD6-4AD3-91CE-C5346E4F5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D93D-876A-40F4-B2C3-719195A84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9682-3B83-43C8-ABB9-E815690B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6C9A-98E2-4376-A470-37A666F4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7675-96C6-450B-BC0A-6FDC3302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7EAC-4BA7-4A35-9BD2-4156E9F2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4F8B-07C8-462B-9406-D280083F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A5E5-FA84-4135-A741-E9EB824B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163D-8035-41E3-A973-9FDF8EC1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602E-2138-4107-A830-790CD344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A43E-E41B-4FC6-ACD4-403AE04F64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:\DEPT\WM\_SHARED\2011 Adviosry Resources\2011 ADVISORY CD FILES\2. EMPOWER\EMPOWER\1. Outreach Is for Everyone-WM Evangelism Manual\EVANGELISM MANUAL - EDITED\PP Slides\COVER GERAL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05520" y="1066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Palatino Linotype"/>
              </a:rPr>
              <a:t>ЕВАНГЕЛИЗМ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Palatino Linotype"/>
              </a:rPr>
              <a:t>для </a:t>
            </a:r>
            <a:r>
              <a:rPr b="1" lang="ru-RU" sz="3600" spc="-1" strike="noStrike">
                <a:solidFill>
                  <a:srgbClr val="c00000"/>
                </a:solidFill>
                <a:latin typeface="Palatino Linotype"/>
              </a:rPr>
              <a:t>КАЖД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86040" y="28191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Генеральна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Отдел Женского служени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РУКОВОДСТВО ПО ЕВАНГЕЛЬСКОЙ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Обучающая Программа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WMLOGO-small"/>
          <p:cNvPicPr/>
          <p:nvPr/>
        </p:nvPicPr>
        <p:blipFill>
          <a:blip r:embed="rId2"/>
          <a:stretch/>
        </p:blipFill>
        <p:spPr>
          <a:xfrm>
            <a:off x="7238880" y="4572000"/>
            <a:ext cx="60984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828440" y="990720"/>
            <a:ext cx="7086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1.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Необходимость уделять время молитв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 успехе каждой встречи, а также во время встре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2.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Фокусирование на Библии.</a:t>
            </a: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ям необходимо слышать,          что вы говорите, а не то,                    что интерпретируете (посмотрите, например, на Даниила)                     «то, что говорит Библия» - позвольте Библии объяснять себ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1752120" y="11430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етко представьте вашей аудитории,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что целью вашего семинара является прославление Иисуса Христ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сскажите о Христ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4.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Объясните участникам,                что мы изучаем события последних дней не только для того, чтобы понимать, что происходит                   в последние дни, но также,         чтобы подготовиться к ним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КОМАНДА ЕВАНГЕЛИСТОВ</a:t>
            </a:r>
            <a:br>
              <a:rPr sz="4000"/>
            </a:br>
            <a:r>
              <a:rPr b="0" lang="en-US" sz="4000" spc="-1" strike="noStrike">
                <a:solidFill>
                  <a:srgbClr val="0070c0"/>
                </a:solidFill>
                <a:latin typeface="Bookman Old Style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09480" y="3657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Не мудро пытаться проводить евангельский семинар в одиночку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Другим людям также нужно получить опыт и благословения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Мы все обладаем разными духовными дарами. Для успешной программы нужны различные таланты и личностные характеристик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МАЛЕНЬКИЕ ПОДСКАЗКИ       ДЛЯ ЧЛЕНОВ КОМАНДЫ</a:t>
            </a:r>
            <a:br>
              <a:rPr sz="4000"/>
            </a:br>
            <a:r>
              <a:rPr b="1" lang="en-US" sz="4000" spc="-1" strike="noStrike">
                <a:solidFill>
                  <a:srgbClr val="0070c0"/>
                </a:solidFill>
                <a:latin typeface="Bookman Old Style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3428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омогите членам команды понять,               что их попросили помочь регистрировать гостей, подготовить семинар                          или музыкальное выступление,                       но вся эта работа второстепенна.          </a:t>
            </a:r>
            <a:r>
              <a:rPr b="1" i="1" lang="ru-RU" sz="3100" spc="-1" strike="noStrike">
                <a:solidFill>
                  <a:srgbClr val="ff0000"/>
                </a:solidFill>
                <a:latin typeface="Calibri"/>
              </a:rPr>
              <a:t>Прежде всего, их попросили установить взаимоотношения  с посетителями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1752480" y="838080"/>
            <a:ext cx="701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сле того, как вы познакомитесь                  с гостями, вы можете сесть рядом                  с ними во время семинара, запомнить         их имена и звонить им, если                       они пропускают встречу – </a:t>
            </a:r>
            <a:r>
              <a:rPr b="1" i="1" lang="ru-RU" sz="2700" spc="-1" strike="noStrike">
                <a:solidFill>
                  <a:srgbClr val="ff0000"/>
                </a:solidFill>
                <a:latin typeface="Calibri"/>
              </a:rPr>
              <a:t>не ругайте гостей за пропуски, но проявите                к ним интерес и покажите, что вы       по-настоящему заботитесь о них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говаривая с посетителями,                       не забегайте вперед и </a:t>
            </a:r>
            <a:r>
              <a:rPr b="1" i="1" lang="ru-RU" sz="2700" spc="-1" strike="noStrike">
                <a:solidFill>
                  <a:srgbClr val="ff0000"/>
                </a:solidFill>
                <a:latin typeface="Calibri"/>
              </a:rPr>
              <a:t>не рассказывайте им о следующих темах.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905120" y="609480"/>
            <a:ext cx="6705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Окажите поддержку гостям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они столкнуться с трудностями                 в изучении истины, новой для ни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жде всего,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вы принимаете участие в семинаре, чтобы подружи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Когда ваши посетители придут          в церковь первый раз в субботу,     если возможно, пригласите                 их на обед к себе домой.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вольте    им увидеть, как вы испытываете радость от соблюдения суб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РУКОВОДЯЩИЕ ПРИНЦИПЫ    ДЛЯ РУКОВОДИТЕЛЕЙ СЕМИНА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37339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иже приведены руководящие принципы проведения евангельского семинара, разработанные человеком, который присоединился к церкви благодаря семинару по книге Откровение, и впоследствии проводившего семинары по книге Откровени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752480" y="838080"/>
            <a:ext cx="7010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Каждый вечер используйте проектор и экран или другую видеотехнику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акую как компьютер, видеомагнитофон, большой телевизор, а также классную доску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первый вечер расскажите вашим посетителя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 все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раздаточные материалы бесплатны</a:t>
            </a: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8ed5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бедитесь, что зал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будет открыт        для вас за час до начала первой встреч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828440" y="9144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вы проводите семинар в малой группе или встречаетесь на дому,              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т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ы можете сесть вокруг стола             или по кругу в комнате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 прихода  гостей расставьте стол и стуль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последующих встречах вы можете раскладывать на столе </a:t>
            </a: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только следующий урок.</a:t>
            </a: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1752480" y="13716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вы ожидаете большое количество посетителей,                   то пригласите помощников, назначенных в вашей церкви.        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 первую встречу вам необходимо пригласить двух помощников на каждые 10-15 посетител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:\DEPT\WM\_SHARED\2011 Adviosry Resources\Nurture-Empower-Outreach\EMPOWER\EVANGELISM MANUAL - EDITED\PP evangelism\Chapter 08 cover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228600" y="581040"/>
            <a:ext cx="8686800" cy="703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f2f2"/>
                </a:solidFill>
                <a:latin typeface="Trajan Pro"/>
              </a:rPr>
              <a:t>ЕВАНГЕЛИЗМ </a:t>
            </a:r>
            <a:r>
              <a:rPr b="1" lang="ru-RU" sz="4000" spc="-1" strike="noStrike">
                <a:solidFill>
                  <a:srgbClr val="c00000"/>
                </a:solidFill>
                <a:latin typeface="Trajan Pro"/>
              </a:rPr>
              <a:t>ДЛЯ КАЖД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762440" y="1959120"/>
            <a:ext cx="438156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  <a:ea typeface="Calibri"/>
              </a:rPr>
              <a:t>Глава 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  <a:ea typeface="Calibri"/>
              </a:rPr>
              <a:t>8 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Bookman Old Style"/>
                <a:ea typeface="Calibri"/>
              </a:rPr>
              <a:t>Семинар </a:t>
            </a:r>
            <a:r>
              <a:rPr b="1" lang="en-US" sz="4400" spc="-1" strike="noStrike">
                <a:solidFill>
                  <a:srgbClr val="002060"/>
                </a:solidFill>
                <a:latin typeface="Bookman Old Style"/>
                <a:ea typeface="Calibri"/>
              </a:rPr>
              <a:t>  </a:t>
            </a:r>
            <a:r>
              <a:rPr b="1" lang="ru-RU" sz="4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как вид евангельск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5257800" y="5791320"/>
            <a:ext cx="403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Генеральная конферен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Отдел Женского сл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WMLOGO-small"/>
          <p:cNvPicPr/>
          <p:nvPr/>
        </p:nvPicPr>
        <p:blipFill>
          <a:blip r:embed="rId2"/>
          <a:stretch/>
        </p:blipFill>
        <p:spPr>
          <a:xfrm>
            <a:off x="6877080" y="5410080"/>
            <a:ext cx="60948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828440" y="837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ручите одному помощнику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написать  на бейджиках имена ваших посетителей.</a:t>
            </a: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ый вечер после программы предлагайте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ответить на вопросы вопросника и оставить конверты                с пожертвованиями на стол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се записи</a:t>
            </a: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лайте своевременн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По прошествии нескольких встреч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вы можете открыть книжную лавк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600200" y="685440"/>
            <a:ext cx="7238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 время первых встреч побуждайте людей </a:t>
            </a:r>
            <a:r>
              <a:rPr b="1" lang="ru-RU" sz="2700" spc="-1" strike="noStrike">
                <a:solidFill>
                  <a:srgbClr val="0070c0"/>
                </a:solidFill>
                <a:latin typeface="Calibri"/>
              </a:rPr>
              <a:t>приглашать своих друзей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мните о том, что люди изучают урок         до прихода на вашу встречу, поэтому вам необходимо хорошо рассмотреть его            во время встреч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вы запланировали серию евангельских встреч и не закончили уроки, расскажите участникам об этом на первой встрече            </a:t>
            </a:r>
            <a:r>
              <a:rPr b="1" lang="ru-RU" sz="2700" spc="-1" strike="noStrike">
                <a:solidFill>
                  <a:srgbClr val="0070c0"/>
                </a:solidFill>
                <a:latin typeface="Calibri"/>
              </a:rPr>
              <a:t>и регулярно напоминайте о том, что ваши встречи лишь прелюдия к более детальному изучению, которое будет предложено позж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P:\DEPT\WM\_SHARED\2011 Adviosry Resources\Nurture-Empower-Outreach\EMPOWER\EVANGELISM MANUAL - EDITED\PP evangelism\Chapter 08 text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609480" y="2971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b0f0"/>
                </a:solidFill>
                <a:latin typeface="Calibri"/>
              </a:rPr>
              <a:t>Визуализация – ключ к успеху. </a:t>
            </a:r>
            <a:r>
              <a:rPr b="1" lang="ru-RU" sz="3300" spc="-1" strike="noStrike">
                <a:solidFill>
                  <a:srgbClr val="f2f2f2"/>
                </a:solidFill>
                <a:latin typeface="Calibri"/>
              </a:rPr>
              <a:t>По мере того, как ваши дружеские отношения будут укрепляться и у людей будет возможность открываться, вы можете поделиться евангельской вестью в более полном объеме. </a:t>
            </a:r>
            <a:r>
              <a:rPr b="1" i="1" lang="ru-RU" sz="3300" spc="-1" strike="noStrike">
                <a:solidFill>
                  <a:srgbClr val="f2f2f2"/>
                </a:solidFill>
                <a:latin typeface="Calibri"/>
              </a:rPr>
              <a:t>(Для более подробного описания читайте главу 12</a:t>
            </a:r>
            <a:r>
              <a:rPr b="1" lang="ru-RU" sz="33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1" i="1" lang="ru-RU" sz="3300" spc="-1" strike="noStrike">
                <a:solidFill>
                  <a:srgbClr val="f2f2f2"/>
                </a:solidFill>
                <a:latin typeface="Calibri"/>
              </a:rPr>
              <a:t>«Посещения   и принятие решений»).</a:t>
            </a:r>
            <a:r>
              <a:rPr b="0" lang="ru-RU" sz="3300" spc="-1" strike="noStrike">
                <a:solidFill>
                  <a:srgbClr val="f2f2f2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:\DEPT\WM\_SHARED\2011 Adviosry Resources\Nurture-Empower-Outreach\EMPOWER\EVANGELISM MANUAL - EDITED\PP evangelism\Chapter 08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80520" y="2286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«Каждая община должна быть школой подготовки для христиан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ждого члена церкви следует обучать проведению библейских занятий с другими людьми, проведению уроков субботней школы, а также как наилучшим образом помочь бедным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позаботиться о больных, как работать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необращенными. Необходимо организовывать школы здорового образа жизни, кулинарные школы, а также занятия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 различным направлениям христианской благотворительной деятельност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:\DEPT\WM\_SHARED\2011 Adviosry Resources\Nurture-Empower-Outreach\EMPOWER\EVANGELISM MANUAL - EDITED\PP evangelism\Chapter 08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80880" y="25142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обходимо, чтобы теоретическое обучение тесно переплеталось с реальной практической деятельностью под руководством опытных наставников. Пусть учителя покажут пример работы с людьми, а другие, присоединившись     к ним, учатся на их примере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Один практический пример гораздо более ценен, чем многие теоретические предписания»,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Служение исцелени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стр. 148,149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26665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еминар как вид евангельской работы представляет собой скорее методичное изложение темы, чем изучение Библии        или изучение в малых группах, но вместе           с тем, он не настолько строг по своей форме, как евангельская программа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Данный семинар предусматривает приглашение к диалогу       и участию, которые не может предложить обычная евангельская программ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800" spc="-1" strike="noStrike">
                <a:solidFill>
                  <a:srgbClr val="0070c0"/>
                </a:solidFill>
                <a:latin typeface="Bookman Old Style"/>
              </a:rPr>
              <a:t>КАК ВАМ ПОДГОТОВИТЬ СЕМИНАР</a:t>
            </a:r>
            <a:r>
              <a:rPr b="1" lang="en-US" sz="4800" spc="-1" strike="noStrike">
                <a:solidFill>
                  <a:srgbClr val="0070c0"/>
                </a:solidFill>
                <a:latin typeface="Bookman Old Style"/>
              </a:rPr>
              <a:t>?  </a:t>
            </a: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752120" y="2362320"/>
            <a:ext cx="708660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 основном подготовка к семинару напоминает подготовку к большой евангельской кампании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о лишь отличие – человек, который будет представлять тему, будет лектором или преподавателем, а не евангелистом или проповедни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2437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Совершая евангельскую работу, женщинам очень важно работать вместе.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аким образом, мы сможем поддерживать друг друга                и делиться своими идеями. Мы можем молиться вместе о наших гостях и также друг  о друге, объединяя нашу команду в Господе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Когда женщины соглашаются работать вместе во имя благой цели, благодаря Божьему руководству, они могут достичь таких успехов, о которые даже не представлял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533520" y="2819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Евангельский семинар – улучшенный вид работы, когда посвященные женщины     из церкви могут стать друзьями тем,       кто его посещает.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учше всего, если каждый вечер они будут приглашать           на семинар своих друзей, членов семьи      и сосед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КЛЮЧИ К УСПЕХ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37335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иже предложены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четыре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очень важных ключа для успеха любой евангельской инициативы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особенно важные            для проведения семина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1:28:44Z</dcterms:created>
  <dc:creator/>
  <dc:description/>
  <dc:language>en-US</dc:language>
  <cp:lastModifiedBy/>
  <dcterms:modified xsi:type="dcterms:W3CDTF">2011-08-21T07:13:31Z</dcterms:modified>
  <cp:revision>0</cp:revision>
  <dc:subject/>
  <dc:title/>
</cp:coreProperties>
</file>